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6BC-EC24-4437-BB59-7B3DBDAA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C91-C38D-407F-BC76-29983A6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E13-1AC9-426F-8E4E-BCAC2B52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CF8-645D-471A-B425-FA22E8FE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061-49BF-4FF1-8445-A437FCE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5B4-0ADE-4521-9BDD-FAC0FD8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A67-6359-49E7-9A98-A6333BE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688-88D9-46D4-B7DC-A977309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C5C-8219-4311-AFA7-0304090E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D10-EC23-4700-AAB6-B9FAB80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AFF-06AB-471E-93E3-F607DE7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96F-19C5-4B3F-A9E3-05F4C34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893-FDA6-469A-A8EA-B57C68C3E7C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Preferred Customer</cp:lastModifiedBy>
  <dcterms:modified xsi:type="dcterms:W3CDTF">2013-10-17T00:28:09Z</dcterms:modified>
  <cp:revision>5</cp:revision>
  <dc:subject/>
  <dc:title>Presentación de PowerPoint</dc:title>
</cp:coreProperties>
</file>